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5F43-3625-47F4-923E-7F417994C59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01E6-445D-4740-B286-8136C7A1071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30E4-44A6-405A-91A9-766C26D53A3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ttp://www.youtube.com/watch?v=m55kgyApY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4F0F-2C70-4F7B-B939-638D0CBE46A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ttp://www.youtube.com/watch?v=5p540KucRc8 penny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ttp://www.youtube.com/watch?v=oLZB0sneSQE penny 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ttp://www.youtube.com/watch?v=wmvMdtIM1aA penny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D6CC-6DC1-4A2D-8AE7-7DD81BEF4C3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F505-0201-46D4-8F6C-A8894862F10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8775-D076-4D7A-9F42-2C9AA30E9E5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9F2B-33EC-4B99-B9A9-8371C9D3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BFCB-E636-4A36-B413-969C8144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0E8-4D17-48CE-8CD1-04E204F8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E3F8-6324-4594-91EC-97056D4B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B402-86C4-48FC-8050-4D6E7F5B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3EE8-273E-4498-A70E-124CAF6C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C03E-4806-480B-8BF5-9BD52ADE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ED3-29A7-4687-B75E-06A77D46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71C3-5E02-4FAD-9931-03925822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8A30-D6CD-43F0-AB8E-5D226964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8459-AF85-4288-8D92-5323559B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34D0-A9E9-4131-AC24-D2DC235E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3F80-3831-4142-A60A-98C2FEFBAC3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S +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228600" y="-228960"/>
            <a:ext cx="9677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4) ACIDS TURN BLUE LITMUS PAPER R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10666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6eba"/>
                </a:solidFill>
                <a:latin typeface="Arial"/>
              </a:rPr>
              <a:t>Blue litmus paper is an indicator and turn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 when it touches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litmus-acid"/>
          <p:cNvPicPr/>
          <p:nvPr/>
        </p:nvPicPr>
        <p:blipFill>
          <a:blip r:embed="rId1"/>
          <a:stretch/>
        </p:blipFill>
        <p:spPr>
          <a:xfrm>
            <a:off x="2438280" y="2057400"/>
            <a:ext cx="4654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228600" y="-228960"/>
            <a:ext cx="9677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) ACIDS NEUTRALIZE 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Acids can neutralize bases, so adding an acid to a base can neutralize their caustic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175248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HCl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(aq)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+ NaOH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(aq)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H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(l)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+ NaCl</a:t>
            </a:r>
            <a:r>
              <a:rPr b="1" lang="en-US" sz="2800" spc="-1" strike="noStrike" baseline="-25000">
                <a:solidFill>
                  <a:srgbClr val="ff5050"/>
                </a:solidFill>
                <a:latin typeface="Arial"/>
              </a:rPr>
              <a:t>(aq)</a:t>
            </a:r>
            <a:br>
              <a:rPr sz="2800"/>
            </a:br>
            <a:br>
              <a:rPr sz="2800"/>
            </a:b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Hydrochloric acid + sodium hydroxid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water + salt (sodium chlor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1015411"/>
          <p:cNvPicPr/>
          <p:nvPr/>
        </p:nvPicPr>
        <p:blipFill>
          <a:blip r:embed="rId1"/>
          <a:stretch/>
        </p:blipFill>
        <p:spPr>
          <a:xfrm>
            <a:off x="304920" y="35812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17-water_bottle"/>
          <p:cNvPicPr/>
          <p:nvPr/>
        </p:nvPicPr>
        <p:blipFill>
          <a:blip r:embed="rId2"/>
          <a:stretch/>
        </p:blipFill>
        <p:spPr>
          <a:xfrm>
            <a:off x="4419720" y="32767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1"/>
          <p:cNvSpPr/>
          <p:nvPr/>
        </p:nvSpPr>
        <p:spPr>
          <a:xfrm>
            <a:off x="3581280" y="43434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324480" y="4495680"/>
            <a:ext cx="685800" cy="685800"/>
          </a:xfrm>
          <a:prstGeom prst="plus">
            <a:avLst>
              <a:gd name="adj" fmla="val 41319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6" descr="Salt%2520Shaker"/>
          <p:cNvPicPr/>
          <p:nvPr/>
        </p:nvPicPr>
        <p:blipFill>
          <a:blip r:embed="rId3"/>
          <a:stretch/>
        </p:blipFill>
        <p:spPr>
          <a:xfrm>
            <a:off x="7143840" y="3505320"/>
            <a:ext cx="2000160" cy="2286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7"/>
          <p:cNvSpPr/>
          <p:nvPr/>
        </p:nvSpPr>
        <p:spPr>
          <a:xfrm>
            <a:off x="-76320" y="55627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Corro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caustic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46eba"/>
                </a:solidFill>
                <a:latin typeface="Arial"/>
              </a:rPr>
              <a:t>non-corro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946eba"/>
                </a:solidFill>
                <a:latin typeface="Arial"/>
              </a:rPr>
              <a:t>non-corro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-9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80880" y="2895480"/>
            <a:ext cx="8763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ther than tasting bitter, feeling slippery)</a:t>
            </a:r>
            <a:br>
              <a:rPr sz="24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Conduct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lectric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Tur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tmus paper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Turns phenolphthalein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i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Neutralize acid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SES ARE CAUSTIC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174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BASES CONDUCT ELECTRI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9907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ases are made of ions, so in water these ions separate and can conduct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inter-ionic-attraction"/>
          <p:cNvPicPr/>
          <p:nvPr/>
        </p:nvPicPr>
        <p:blipFill>
          <a:blip r:embed="rId1"/>
          <a:stretch/>
        </p:blipFill>
        <p:spPr>
          <a:xfrm>
            <a:off x="968400" y="1905120"/>
            <a:ext cx="3378240" cy="3876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shock"/>
          <p:cNvPicPr/>
          <p:nvPr/>
        </p:nvPicPr>
        <p:blipFill>
          <a:blip r:embed="rId2"/>
          <a:stretch/>
        </p:blipFill>
        <p:spPr>
          <a:xfrm>
            <a:off x="5181480" y="1886040"/>
            <a:ext cx="3353040" cy="26859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0" y="5791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NaOH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Arial"/>
              </a:rPr>
              <a:t>(aq)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Na</a:t>
            </a:r>
            <a:r>
              <a:rPr b="1" lang="en-US" sz="4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Arial"/>
              </a:rPr>
              <a:t>(aq)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+ OH</a:t>
            </a:r>
            <a:r>
              <a:rPr b="1" lang="en-US" sz="40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Arial"/>
              </a:rPr>
              <a:t>(aq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5867280" y="5562720"/>
            <a:ext cx="1981440" cy="1295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5011560" y="4681440"/>
            <a:ext cx="369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ydroxide ion makes bases ba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8"/>
          <p:cNvCxnSpPr/>
          <p:nvPr/>
        </p:nvCxnSpPr>
        <p:spPr>
          <a:xfrm>
            <a:off x="5676480" y="5535720"/>
            <a:ext cx="381960" cy="310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80880" y="-174960"/>
            <a:ext cx="9982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2) BASES TURN RED LITMUS PAPER BLU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0" y="10666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7690"/>
                </a:solidFill>
                <a:latin typeface="Arial"/>
              </a:rPr>
              <a:t>Red litmus paper is an indicator and turn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blue when it touches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gcsechem_59_b"/>
          <p:cNvPicPr/>
          <p:nvPr/>
        </p:nvPicPr>
        <p:blipFill>
          <a:blip r:embed="rId1"/>
          <a:stretch/>
        </p:blipFill>
        <p:spPr>
          <a:xfrm>
            <a:off x="2895480" y="2057400"/>
            <a:ext cx="36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80880" y="-174960"/>
            <a:ext cx="9982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) BASES TURN PHENOLPHTALEIN </a:t>
            </a:r>
            <a:r>
              <a:rPr b="0" lang="en-US" sz="3500" spc="-1" strike="noStrike">
                <a:solidFill>
                  <a:srgbClr val="ff0066"/>
                </a:solidFill>
                <a:latin typeface="Arial"/>
              </a:rPr>
              <a:t>PINK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-76320" y="990720"/>
            <a:ext cx="9296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enolphtalein is colourless, and </a:t>
            </a:r>
            <a:r>
              <a:rPr b="1" lang="en-US" sz="2800" spc="-1" strike="noStrike">
                <a:solidFill>
                  <a:srgbClr val="b27690"/>
                </a:solidFill>
                <a:latin typeface="Arial"/>
              </a:rPr>
              <a:t>turns pink in bases (above pH 8.2) while remaining colourless in aci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www.titrations.info/img/phenolphthalein.jpg"/>
          <p:cNvPicPr/>
          <p:nvPr/>
        </p:nvPicPr>
        <p:blipFill>
          <a:blip r:embed="rId1"/>
          <a:stretch/>
        </p:blipFill>
        <p:spPr>
          <a:xfrm>
            <a:off x="838080" y="198108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80880" y="-381240"/>
            <a:ext cx="9982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4) BASES NEUTRALIZE ACID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Antacid-L478"/>
          <p:cNvPicPr/>
          <p:nvPr/>
        </p:nvPicPr>
        <p:blipFill>
          <a:blip r:embed="rId1"/>
          <a:stretch/>
        </p:blipFill>
        <p:spPr>
          <a:xfrm>
            <a:off x="2390760" y="1981080"/>
            <a:ext cx="4619520" cy="30798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0" y="8380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Bases can neutralize acids, so adding a base to an acid can eliminate their corrosiveness</a:t>
            </a:r>
            <a:br>
              <a:rPr sz="2400"/>
            </a:b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Example: Antacids to neutralize stomach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2HCl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(aq)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+ CaC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3(aq)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CaCl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(aq)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3(aq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3(aq) </a:t>
            </a:r>
            <a:r>
              <a:rPr b="1" lang="en-US" sz="28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H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(l)</a:t>
            </a:r>
            <a:r>
              <a:rPr b="1" lang="en-US" sz="2800" spc="-1" strike="noStrike">
                <a:solidFill>
                  <a:srgbClr val="45736e"/>
                </a:solidFill>
                <a:latin typeface="Arial"/>
              </a:rPr>
              <a:t> + CO</a:t>
            </a:r>
            <a:r>
              <a:rPr b="1" lang="en-US" sz="2800" spc="-1" strike="noStrike" baseline="-25000">
                <a:solidFill>
                  <a:srgbClr val="45736e"/>
                </a:solidFill>
                <a:latin typeface="Arial"/>
              </a:rPr>
              <a:t>2(g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 flipH="1">
            <a:off x="3123720" y="5715000"/>
            <a:ext cx="3886200" cy="304920"/>
          </a:xfrm>
          <a:prstGeom prst="line">
            <a:avLst/>
          </a:prstGeom>
          <a:ln w="57240">
            <a:solidFill>
              <a:srgbClr val="5d9d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80880" y="-381240"/>
            <a:ext cx="9982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HOW TO MAKE ACIDS + BAS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1676520"/>
            <a:ext cx="9144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S:</a:t>
            </a:r>
            <a:br>
              <a:rPr sz="2400"/>
            </a:b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1) Non-metal + oxygen </a:t>
            </a:r>
            <a:r>
              <a:rPr b="1" lang="en-US" sz="24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non-metal oxide</a:t>
            </a:r>
            <a:br>
              <a:rPr sz="2400"/>
            </a:b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2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metal oxide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+ water </a:t>
            </a:r>
            <a:r>
              <a:rPr b="1" lang="en-US" sz="24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ACID!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EXAMPLE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+ 2O</a:t>
            </a:r>
            <a:r>
              <a:rPr b="1" lang="en-US" sz="24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2NO</a:t>
            </a:r>
            <a:r>
              <a:rPr b="1" lang="en-US" sz="24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br>
              <a:rPr sz="2400"/>
            </a:b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HNO</a:t>
            </a:r>
            <a:r>
              <a:rPr b="1" lang="en-US" sz="2400" spc="-1" strike="noStrike" baseline="-25000">
                <a:solidFill>
                  <a:srgbClr val="45736e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:</a:t>
            </a:r>
            <a:br>
              <a:rPr sz="2400"/>
            </a:b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1) Metal + oxygen </a:t>
            </a:r>
            <a:r>
              <a:rPr b="1" lang="en-US" sz="24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Metal oxide</a:t>
            </a:r>
            <a:br>
              <a:rPr sz="2400"/>
            </a:b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2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l oxide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+ water </a:t>
            </a:r>
            <a:r>
              <a:rPr b="1" lang="en-US" sz="24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BASE!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EXAMPLE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2Mg + O</a:t>
            </a:r>
            <a:r>
              <a:rPr b="1" lang="en-US" sz="24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2MgO</a:t>
            </a:r>
            <a:br>
              <a:rPr sz="2400"/>
            </a:b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MgO + H</a:t>
            </a:r>
            <a:r>
              <a:rPr b="1" lang="en-US" sz="24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45736e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45736e"/>
                </a:solidFill>
                <a:latin typeface="Arial"/>
              </a:rPr>
              <a:t> Mg(OH)</a:t>
            </a:r>
            <a:r>
              <a:rPr b="1" lang="en-US" sz="2400" spc="-1" strike="noStrike" baseline="-25000">
                <a:solidFill>
                  <a:srgbClr val="45736e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make-red-cabbage-acidbase-indicator-200X200"/>
          <p:cNvPicPr/>
          <p:nvPr/>
        </p:nvPicPr>
        <p:blipFill>
          <a:blip r:embed="rId1"/>
          <a:stretch/>
        </p:blipFill>
        <p:spPr>
          <a:xfrm>
            <a:off x="457200" y="205740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nc0692"/>
          <p:cNvPicPr/>
          <p:nvPr/>
        </p:nvPicPr>
        <p:blipFill>
          <a:blip r:embed="rId2"/>
          <a:stretch/>
        </p:blipFill>
        <p:spPr>
          <a:xfrm>
            <a:off x="4672080" y="2286000"/>
            <a:ext cx="4471920" cy="37638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2"/>
          <p:cNvSpPr/>
          <p:nvPr/>
        </p:nvSpPr>
        <p:spPr>
          <a:xfrm>
            <a:off x="-380880" y="-98280"/>
            <a:ext cx="9982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CID-BASE INDIC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0" y="9907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dicators change color depending on whether a substance is acidic or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2"/>
          <p:cNvSpPr/>
          <p:nvPr/>
        </p:nvSpPr>
        <p:spPr>
          <a:xfrm>
            <a:off x="-380880" y="-98280"/>
            <a:ext cx="9982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CID-BASE INDIC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0" y="9907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fferent indicators change colour at specific pH r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www.bcscience10.com/images/0_quiz-5.1-05.gif"/>
          <p:cNvPicPr/>
          <p:nvPr/>
        </p:nvPicPr>
        <p:blipFill>
          <a:blip r:embed="rId1"/>
          <a:stretch/>
        </p:blipFill>
        <p:spPr>
          <a:xfrm>
            <a:off x="0" y="1979640"/>
            <a:ext cx="914400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981080" y="0"/>
            <a:ext cx="5011920" cy="6799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7621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strength of an acid or base is measured with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3897000" y="215280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2221200" y="35812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Straight Arrow Connector 3"/>
          <p:cNvCxnSpPr/>
          <p:nvPr/>
        </p:nvCxnSpPr>
        <p:spPr>
          <a:xfrm flipV="1">
            <a:off x="2796840" y="3047400"/>
            <a:ext cx="1021320" cy="686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9"/>
          <p:cNvSpPr/>
          <p:nvPr/>
        </p:nvSpPr>
        <p:spPr>
          <a:xfrm>
            <a:off x="5572080" y="3581280"/>
            <a:ext cx="16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10"/>
          <p:cNvCxnSpPr/>
          <p:nvPr/>
        </p:nvCxnSpPr>
        <p:spPr>
          <a:xfrm flipH="1" flipV="1">
            <a:off x="5172840" y="3047400"/>
            <a:ext cx="583560" cy="533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6" name="TextBox 15"/>
          <p:cNvSpPr/>
          <p:nvPr/>
        </p:nvSpPr>
        <p:spPr>
          <a:xfrm>
            <a:off x="2536920" y="5462640"/>
            <a:ext cx="39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H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of 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7621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ulating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935640" y="3581280"/>
            <a:ext cx="38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garithm with base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3"/>
          <p:cNvCxnSpPr/>
          <p:nvPr/>
        </p:nvCxnSpPr>
        <p:spPr>
          <a:xfrm flipV="1">
            <a:off x="2797200" y="2742840"/>
            <a:ext cx="1775520" cy="99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1" name="TextBox 9"/>
          <p:cNvSpPr/>
          <p:nvPr/>
        </p:nvSpPr>
        <p:spPr>
          <a:xfrm>
            <a:off x="5562720" y="35812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centration of hydrogen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Straight Arrow Connector 10"/>
          <p:cNvCxnSpPr/>
          <p:nvPr/>
        </p:nvCxnSpPr>
        <p:spPr>
          <a:xfrm flipH="1" flipV="1">
            <a:off x="6019560" y="2828160"/>
            <a:ext cx="583200" cy="731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3" name="TextBox 13"/>
          <p:cNvSpPr/>
          <p:nvPr/>
        </p:nvSpPr>
        <p:spPr>
          <a:xfrm>
            <a:off x="2277360" y="1905120"/>
            <a:ext cx="44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H = -log [H+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H Sca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acids_and_bases_phscale"/>
          <p:cNvPicPr/>
          <p:nvPr/>
        </p:nvPicPr>
        <p:blipFill>
          <a:blip r:embed="rId1"/>
          <a:stretch/>
        </p:blipFill>
        <p:spPr>
          <a:xfrm>
            <a:off x="609480" y="1447920"/>
            <a:ext cx="7772400" cy="30574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0" y="7621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 25°C: From 0 to 14, with 7 being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3131280" y="4940280"/>
            <a:ext cx="288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H &lt; 7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aci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7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u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pH &gt; 7 </a:t>
            </a:r>
            <a:r>
              <a:rPr b="0" lang="en-US" sz="2800" spc="-1" strike="noStrike">
                <a:solidFill>
                  <a:srgbClr val="26267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 ba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H Sca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http://fg.cns.utexas.edu/fg/course_notebook_chapter_seven_files/PH_scale.png"/>
          <p:cNvPicPr/>
          <p:nvPr/>
        </p:nvPicPr>
        <p:blipFill>
          <a:blip r:embed="rId1"/>
          <a:stretch/>
        </p:blipFill>
        <p:spPr>
          <a:xfrm>
            <a:off x="1295280" y="762120"/>
            <a:ext cx="647712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H Sca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84240" y="4416480"/>
            <a:ext cx="905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Every pH level is 10x more concentrated than the level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.e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H 4 is 10x more concentrated than pH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pH 3 is 100x more concentrated than pH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http://dirtsecrets.files.wordpress.com/2009/02/ph_scale2.png?w=600"/>
          <p:cNvPicPr/>
          <p:nvPr/>
        </p:nvPicPr>
        <p:blipFill>
          <a:blip r:embed="rId1"/>
          <a:srcRect l="0" t="14084" r="0" b="0"/>
          <a:stretch/>
        </p:blipFill>
        <p:spPr>
          <a:xfrm>
            <a:off x="1143000" y="914400"/>
            <a:ext cx="69343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CID NAM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925640"/>
          <a:ext cx="9144000" cy="317988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8862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yatomic ion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d anion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u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u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Cl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hlo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on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arbon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o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hospho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</a:tbl>
          </a:graphicData>
        </a:graphic>
      </p:graphicFrame>
      <p:sp>
        <p:nvSpPr>
          <p:cNvPr id="165" name="Text Box 3"/>
          <p:cNvSpPr/>
          <p:nvPr/>
        </p:nvSpPr>
        <p:spPr>
          <a:xfrm>
            <a:off x="0" y="99072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Recall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yatomic ions have modified names in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827720" y="2362320"/>
            <a:ext cx="1959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(aq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2759040" y="3005280"/>
            <a:ext cx="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371600" y="5943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Sulfu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066680" y="6400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OXY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57200" y="45720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Recall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acids have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6138000" y="2286000"/>
            <a:ext cx="1470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H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(aq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6873840" y="3005280"/>
            <a:ext cx="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029200" y="5943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5181480" y="6400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BINARY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22400" y="167652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  <a:ea typeface="Arial"/>
              </a:rPr>
              <a:t>1) Na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5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CID NAM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220968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brom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 flipH="1">
            <a:off x="3886200" y="2819520"/>
            <a:ext cx="1905120" cy="15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4116240" y="2819520"/>
            <a:ext cx="190368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800600" y="4495680"/>
            <a:ext cx="2743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Arial"/>
              </a:rPr>
              <a:t>Br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243828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598560" y="4262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5954400" y="4290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769200" y="4276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6115680" y="42768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2362320" y="5805360"/>
            <a:ext cx="5257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  <a:ea typeface="Arial"/>
              </a:rPr>
              <a:t>= HBrO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3(aq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544680" y="990720"/>
            <a:ext cx="63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  <a:ea typeface="Arial"/>
              </a:rPr>
              <a:t>2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CID NAM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8555E-006 L 0.34965 0.10659 E">
                                      <p:cBhvr>
                                        <p:cTn id="22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33526E-006 L -0.21632 0.10243 E">
                                      <p:cBhvr>
                                        <p:cTn id="232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CID NAM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2382840"/>
          <a:ext cx="9144000" cy="3179880"/>
        </p:xfrm>
        <a:graphic>
          <a:graphicData uri="http://schemas.openxmlformats.org/drawingml/2006/table">
            <a:tbl>
              <a:tblPr/>
              <a:tblGrid>
                <a:gridCol w="2362320"/>
                <a:gridCol w="2895480"/>
                <a:gridCol w="38862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yatomic ion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d anion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ac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u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urous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lo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Cl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hlorous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on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bo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arbonous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o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sphorous a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8c8"/>
                    </a:solidFill>
                  </a:tcPr>
                </a:tc>
              </a:tr>
            </a:tbl>
          </a:graphicData>
        </a:graphic>
      </p:graphicFrame>
      <p:sp>
        <p:nvSpPr>
          <p:cNvPr id="193" name="Text Box 3"/>
          <p:cNvSpPr/>
          <p:nvPr/>
        </p:nvSpPr>
        <p:spPr>
          <a:xfrm>
            <a:off x="0" y="990720"/>
            <a:ext cx="890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xyacids with polyatomic ions that end in 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” are given the ending 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o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3163320" y="2038320"/>
            <a:ext cx="25077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Arial"/>
              </a:rPr>
              <a:t>HN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(aq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"/>
          <p:cNvSpPr/>
          <p:nvPr/>
        </p:nvSpPr>
        <p:spPr>
          <a:xfrm flipH="1" flipV="1">
            <a:off x="4473360" y="2836440"/>
            <a:ext cx="439560" cy="59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122400" y="114300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  <a:ea typeface="Arial"/>
              </a:rPr>
              <a:t>1) Na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CID NAM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886200" y="3276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nit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2486520" y="5867280"/>
            <a:ext cx="431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  <a:ea typeface="Arial"/>
              </a:rPr>
              <a:t>= nitrous ac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-304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80880" y="2971800"/>
            <a:ext cx="8763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ther than tasting sour and being corrosive)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React with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etal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React with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arbonat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Conduct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lectricity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Turn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tmus pap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d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Neutralize bas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IDS ARE CORROSIV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2209680" y="2178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bromous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 flipH="1">
            <a:off x="3886200" y="2819520"/>
            <a:ext cx="1905120" cy="15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4116240" y="2819520"/>
            <a:ext cx="190368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4800600" y="4495680"/>
            <a:ext cx="2743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Arial"/>
              </a:rPr>
              <a:t>Br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438280" y="44956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3598560" y="4262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954400" y="4290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3769200" y="4276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6115680" y="42768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2362320" y="5805360"/>
            <a:ext cx="5257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  <a:ea typeface="Arial"/>
              </a:rPr>
              <a:t>= HBrO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Verdana"/>
                <a:ea typeface="Arial"/>
              </a:rPr>
              <a:t>2(aq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544680" y="990720"/>
            <a:ext cx="63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  <a:ea typeface="Arial"/>
              </a:rPr>
              <a:t>2) Writing the chemical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CID NAM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8555E-006 L 0.34965 0.10659 E">
                                      <p:cBhvr>
                                        <p:cTn id="280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33526E-006 L -0.21632 0.10243 E">
                                      <p:cBhvr>
                                        <p:cTn id="284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-380880" y="-304920"/>
            <a:ext cx="9982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"/>
          <p:cNvSpPr/>
          <p:nvPr/>
        </p:nvSpPr>
        <p:spPr>
          <a:xfrm>
            <a:off x="2836440" y="312408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ge 228 # 1, 3 –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06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ACIDS REACT WITH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quarter-1"/>
          <p:cNvPicPr/>
          <p:nvPr/>
        </p:nvPicPr>
        <p:blipFill>
          <a:blip r:embed="rId1"/>
          <a:stretch/>
        </p:blipFill>
        <p:spPr>
          <a:xfrm>
            <a:off x="0" y="114300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xray+of+swallowed+coin"/>
          <p:cNvPicPr/>
          <p:nvPr/>
        </p:nvPicPr>
        <p:blipFill>
          <a:blip r:embed="rId2"/>
          <a:stretch/>
        </p:blipFill>
        <p:spPr>
          <a:xfrm>
            <a:off x="4267080" y="3664080"/>
            <a:ext cx="4876920" cy="3193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4267080" y="1981080"/>
            <a:ext cx="4876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f you swallowed a penny, what would happen?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DON’T TRY THIS AT HOME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06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ACIDS REACT WITH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13716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2HCl</a:t>
            </a:r>
            <a:r>
              <a:rPr b="1" lang="en-US" sz="3200" spc="-1" strike="noStrike" baseline="-25000">
                <a:solidFill>
                  <a:srgbClr val="808000"/>
                </a:solidFill>
                <a:latin typeface="Arial"/>
              </a:rPr>
              <a:t>(aq)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 + Zn</a:t>
            </a:r>
            <a:r>
              <a:rPr b="1" lang="en-US" sz="3200" spc="-1" strike="noStrike" baseline="-25000">
                <a:solidFill>
                  <a:srgbClr val="808000"/>
                </a:solidFill>
                <a:latin typeface="Arial"/>
              </a:rPr>
              <a:t>(s)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08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 H</a:t>
            </a:r>
            <a:r>
              <a:rPr b="1" lang="en-US" sz="3200" spc="-1" strike="noStrike" baseline="-25000">
                <a:solidFill>
                  <a:srgbClr val="808000"/>
                </a:solidFill>
                <a:latin typeface="Arial"/>
              </a:rPr>
              <a:t>2(g)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 + ZnCl</a:t>
            </a:r>
            <a:r>
              <a:rPr b="1" lang="en-US" sz="3200" spc="-1" strike="noStrike" baseline="-25000">
                <a:solidFill>
                  <a:srgbClr val="808000"/>
                </a:solidFill>
                <a:latin typeface="Arial"/>
              </a:rPr>
              <a:t>2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038c_inflated%20penny"/>
          <p:cNvPicPr/>
          <p:nvPr/>
        </p:nvPicPr>
        <p:blipFill>
          <a:blip r:embed="rId1"/>
          <a:stretch/>
        </p:blipFill>
        <p:spPr>
          <a:xfrm>
            <a:off x="2209680" y="2590920"/>
            <a:ext cx="472464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06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ACIDS REACT WITH CARBON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10666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What happens when you put baking soda (sodium bicarbonate) into vineg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volcanoerupt"/>
          <p:cNvPicPr/>
          <p:nvPr/>
        </p:nvPicPr>
        <p:blipFill>
          <a:blip r:embed="rId1"/>
          <a:stretch/>
        </p:blipFill>
        <p:spPr>
          <a:xfrm>
            <a:off x="2666880" y="2130480"/>
            <a:ext cx="4114800" cy="39654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0" y="59436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(aq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a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(aq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a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06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ACIDS CONDUCT ELECTRI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10666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Acids are made of ions, so in water these ions separate and can conduct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inter-ionic-attraction"/>
          <p:cNvPicPr/>
          <p:nvPr/>
        </p:nvPicPr>
        <p:blipFill>
          <a:blip r:embed="rId1"/>
          <a:stretch/>
        </p:blipFill>
        <p:spPr>
          <a:xfrm>
            <a:off x="968400" y="1905120"/>
            <a:ext cx="3378240" cy="3876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shock"/>
          <p:cNvPicPr/>
          <p:nvPr/>
        </p:nvPicPr>
        <p:blipFill>
          <a:blip r:embed="rId2"/>
          <a:stretch/>
        </p:blipFill>
        <p:spPr>
          <a:xfrm>
            <a:off x="5181480" y="2209680"/>
            <a:ext cx="3353040" cy="26863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9"/>
          <p:cNvSpPr/>
          <p:nvPr/>
        </p:nvSpPr>
        <p:spPr>
          <a:xfrm>
            <a:off x="0" y="5791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HCl</a:t>
            </a:r>
            <a:r>
              <a:rPr b="1" lang="en-US" sz="4000" spc="-1" strike="noStrike" baseline="-25000">
                <a:solidFill>
                  <a:srgbClr val="cc00cc"/>
                </a:solidFill>
                <a:latin typeface="Arial"/>
              </a:rPr>
              <a:t>(aq)</a:t>
            </a: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cc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 H</a:t>
            </a:r>
            <a:r>
              <a:rPr b="1" lang="en-US" sz="4000" spc="-1" strike="noStrike" baseline="30000">
                <a:solidFill>
                  <a:srgbClr val="cc00cc"/>
                </a:solidFill>
                <a:latin typeface="Arial"/>
              </a:rPr>
              <a:t>+</a:t>
            </a:r>
            <a:r>
              <a:rPr b="1" lang="en-US" sz="4000" spc="-1" strike="noStrike" baseline="-25000">
                <a:solidFill>
                  <a:srgbClr val="cc00cc"/>
                </a:solidFill>
                <a:latin typeface="Arial"/>
              </a:rPr>
              <a:t>(aq)</a:t>
            </a: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 + Cl</a:t>
            </a:r>
            <a:r>
              <a:rPr b="1" lang="en-US" sz="4000" spc="-1" strike="noStrike" baseline="30000">
                <a:solidFill>
                  <a:srgbClr val="cc00cc"/>
                </a:solidFill>
                <a:latin typeface="Arial"/>
              </a:rPr>
              <a:t>-</a:t>
            </a:r>
            <a:r>
              <a:rPr b="1" lang="en-US" sz="4000" spc="-1" strike="noStrike" baseline="-25000">
                <a:solidFill>
                  <a:srgbClr val="cc00cc"/>
                </a:solidFill>
                <a:latin typeface="Arial"/>
              </a:rPr>
              <a:t>(aq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0"/>
          <p:cNvSpPr/>
          <p:nvPr/>
        </p:nvSpPr>
        <p:spPr>
          <a:xfrm>
            <a:off x="3886200" y="5562720"/>
            <a:ext cx="1523880" cy="1295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5376960" y="5029200"/>
            <a:ext cx="36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ydrogen ion is what makes an acid aci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8"/>
          <p:cNvCxnSpPr/>
          <p:nvPr/>
        </p:nvCxnSpPr>
        <p:spPr>
          <a:xfrm flipH="1">
            <a:off x="5054040" y="5481720"/>
            <a:ext cx="432360" cy="16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4920" y="-1000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ONIZATION IN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195640" y="2924280"/>
            <a:ext cx="5329080" cy="3600360"/>
          </a:xfrm>
          <a:prstGeom prst="rect">
            <a:avLst/>
          </a:prstGeom>
          <a:gradFill rotWithShape="0">
            <a:gsLst>
              <a:gs pos="0">
                <a:srgbClr val="dbf3fb"/>
              </a:gs>
              <a:gs pos="50000">
                <a:srgbClr val="e3ffff"/>
              </a:gs>
              <a:gs pos="100000">
                <a:srgbClr val="dbf3f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4"/>
          <p:cNvSpPr/>
          <p:nvPr/>
        </p:nvSpPr>
        <p:spPr>
          <a:xfrm>
            <a:off x="1547640" y="1773360"/>
            <a:ext cx="5977080" cy="4751280"/>
          </a:xfrm>
          <a:custGeom>
            <a:avLst/>
            <a:gdLst>
              <a:gd name="textAreaLeft" fmla="*/ 0 w 5977080"/>
              <a:gd name="textAreaRight" fmla="*/ 5977440 w 5977080"/>
              <a:gd name="textAreaTop" fmla="*/ 0 h 4751280"/>
              <a:gd name="textAreaBottom" fmla="*/ 4751640 h 4751280"/>
            </a:gdLst>
            <a:ahLst/>
            <a:rect l="textAreaLeft" t="textAreaTop" r="textAreaRight" b="textAreaBottom"/>
            <a:pathLst>
              <a:path w="3765" h="2993">
                <a:moveTo>
                  <a:pt x="0" y="0"/>
                </a:moveTo>
                <a:lnTo>
                  <a:pt x="3765" y="0"/>
                </a:lnTo>
                <a:lnTo>
                  <a:pt x="3765" y="2993"/>
                </a:lnTo>
                <a:lnTo>
                  <a:pt x="408" y="2993"/>
                </a:lnTo>
                <a:lnTo>
                  <a:pt x="408" y="363"/>
                </a:lnTo>
                <a:lnTo>
                  <a:pt x="0" y="0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3706920" y="98100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ffa1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4356000" y="98100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d3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4786200" y="98100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ffa1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5435640" y="98100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d3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2770200" y="98100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ffa1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3419640" y="98100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d3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380880" y="1143000"/>
            <a:ext cx="3657600" cy="2438280"/>
          </a:xfrm>
          <a:prstGeom prst="wedgeRoundRectCallout">
            <a:avLst>
              <a:gd name="adj1" fmla="val 72263"/>
              <a:gd name="adj2" fmla="val 1108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Strong acids ionize completely in water, while weak acids only ionize sligh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33333 C -0.00469 0.33472 -0.00938 0.33634 -0.01406 0.3375 C -0.02135 0.33912 -0.03594 0.34167 -0.03594 0.3419 C -0.05226 0.34977 -0.07014 0.35301 -0.0875 0.35625 C -0.09688 0.36111 -0.11042 0.3588 -0.11719 0.36875 C -0.12066 0.37384 -0.12656 0.38542 -0.12656 0.38565 C -0.12899 0.39491 -0.13247 0.40255 -0.13438 0.4125 C -0.13351 0.43588 -0.13385 0.46435 -0.12344 0.48542 C -0.12049 0.49121 -0.11736 0.49653 -0.11406 0.50208 C -0.11163 0.50625 -0.10625 0.51458 -0.10625 0.51482 C -0.1033 0.52662 -0.10694 0.51574 -0.09844 0.52708 C -0.09392 0.5331 -0.09097 0.54213 -0.08906 0.55 C -0.08958 0.55278 -0.08941 0.55602 -0.09063 0.55833 C -0.0941 0.56482 -0.10122 0.56644 -0.10625 0.56875 C -0.12135 0.57546 -0.1375 0.57593 -0.15313 0.57917 C -0.16337 0.58588 -0.1625 0.58843 -0.1625 0.60417 E">
                                      <p:cBhvr>
                                        <p:cTn id="30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33333 C 0.00069 0.34375 -0.00104 0.35556 0.00313 0.36458 C 0.00712 0.37338 0.01372 0.38472 0.01875 0.39375 C 0.02326 0.40185 0.03004 0.40185 0.03594 0.40625 C 0.03924 0.40857 0.04184 0.4125 0.04531 0.41458 C 0.06754 0.42824 0.0934 0.43333 0.11719 0.43958 C 0.13351 0.45417 0.12031 0.47894 0.11719 0.5 C 0.11771 0.5132 0.11788 0.52639 0.11875 0.53958 C 0.11892 0.54306 0.11892 0.54699 0.12031 0.55 C 0.1283 0.5669 0.14219 0.57292 0.15469 0.58125 C 0.16424 0.60046 0.15122 0.57708 0.1625 0.58958 C 0.16458 0.5919 0.16563 0.59514 0.16719 0.59792 C 0.16927 0.60602 0.16754 0.60255 0.17188 0.60833 E">
                                      <p:cBhvr>
                                        <p:cTn id="3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2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4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33333 C -0.0026 0.33403 -0.0052 0.33495 -0.00781 0.33565 C -0.0118 0.33657 -0.01996 0.33819 -0.01996 0.33842 C -0.02899 0.34328 -0.03888 0.34514 -0.04843 0.34722 C -0.05364 0.35 -0.06111 0.34884 -0.06493 0.35486 C -0.06684 0.35787 -0.06996 0.36504 -0.06996 0.36504 C -0.07135 0.37083 -0.07326 0.37546 -0.0743 0.38148 C -0.07378 0.39583 -0.07413 0.41319 -0.06822 0.42592 C -0.06666 0.4294 -0.06493 0.43264 -0.06319 0.43611 C -0.0618 0.43866 -0.05885 0.44375 -0.05885 0.44398 C -0.05711 0.45116 -0.0592 0.44444 -0.05451 0.45139 C -0.05191 0.45509 -0.05034 0.46065 -0.0493 0.46528 C -0.04965 0.46713 -0.04947 0.46898 -0.05017 0.4706 C -0.05208 0.47453 -0.05607 0.47546 -0.05885 0.47685 C -0.06718 0.48078 -0.07604 0.48125 -0.08472 0.4831 C -0.09027 0.48727 -0.08993 0.48889 -0.08993 0.49861 E">
                                      <p:cBhvr>
                                        <p:cTn id="48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.33333 C 0.00035 0.34629 -0.00069 0.36111 0.00208 0.37222 C 0.00469 0.38333 0.00903 0.39745 0.0125 0.40879 C 0.01545 0.41898 0.01997 0.41898 0.02396 0.42453 C 0.02604 0.42731 0.02778 0.43217 0.03021 0.43495 C 0.04497 0.45185 0.06215 0.45833 0.07813 0.4662 C 0.08889 0.48426 0.08021 0.51528 0.07813 0.54166 C 0.07847 0.5581 0.07847 0.57477 0.07917 0.5912 C 0.07917 0.5956 0.07917 0.60046 0.08021 0.60416 C 0.08542 0.62546 0.09479 0.63287 0.10313 0.64328 C 0.10938 0.66736 0.1007 0.63819 0.10833 0.6537 C 0.10972 0.65671 0.11042 0.66065 0.11146 0.66412 C 0.11285 0.6743 0.11163 0.66991 0.11458 0.67731 E">
                                      <p:cBhvr>
                                        <p:cTn id="5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60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6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33333 C 0.01285 0.33426 0.02465 0.33541 0.03646 0.33634 C 0.05486 0.3375 0.09149 0.33935 0.09149 0.33958 C 0.13246 0.34514 0.1776 0.34745 0.22187 0.35 C 0.24548 0.35347 0.28003 0.35185 0.29722 0.35903 C 0.3059 0.36273 0.32101 0.37106 0.32101 0.37129 C 0.32743 0.37801 0.33611 0.38356 0.34045 0.39074 C 0.33819 0.40787 0.33923 0.42847 0.31337 0.44375 C 0.3059 0.44815 0.29722 0.45185 0.28976 0.45602 C 0.28333 0.45903 0.26927 0.46504 0.26927 0.46528 C 0.26163 0.47384 0.27135 0.46597 0.24982 0.47407 C 0.23802 0.47847 0.23055 0.48518 0.22621 0.49074 C 0.22726 0.49282 0.22726 0.49514 0.23055 0.49676 C 0.23906 0.50162 0.25625 0.50278 0.26927 0.5044 C 0.30798 0.50926 0.34896 0.50972 0.38785 0.51203 C 0.41371 0.5169 0.41146 0.51875 0.41146 0.53032 E">
                                      <p:cBhvr>
                                        <p:cTn id="6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3 0.33333 C 0.03108 0.34629 0.03195 0.3618 0.03004 0.37315 C 0.02865 0.38472 0.02587 0.3993 0.02327 0.41088 C 0.02153 0.42153 0.01876 0.42153 0.01632 0.42708 C 0.01476 0.42986 0.01337 0.43518 0.01198 0.43773 C 0.00244 0.45532 -0.0085 0.46203 -0.01892 0.46991 C -0.02586 0.48866 -0.02031 0.52083 -0.01892 0.54791 C -0.01927 0.56481 -0.01927 0.58194 -0.01961 0.59884 C -0.01961 0.60347 -0.01961 0.60833 -0.02031 0.61227 C -0.02378 0.63426 -0.02951 0.64166 -0.03525 0.65254 C -0.03906 0.67731 -0.03333 0.64722 -0.03836 0.66342 C -0.0394 0.6662 -0.03975 0.67037 -0.04045 0.67407 C -0.04115 0.68449 -0.04045 0.68009 -0.04253 0.68773 E">
                                      <p:cBhvr>
                                        <p:cTn id="6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195640" y="2924280"/>
            <a:ext cx="5329080" cy="3600360"/>
          </a:xfrm>
          <a:prstGeom prst="rect">
            <a:avLst/>
          </a:prstGeom>
          <a:gradFill rotWithShape="0">
            <a:gsLst>
              <a:gs pos="0">
                <a:srgbClr val="dbf3fb"/>
              </a:gs>
              <a:gs pos="50000">
                <a:srgbClr val="e3ffff"/>
              </a:gs>
              <a:gs pos="100000">
                <a:srgbClr val="dbf3f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"/>
          <p:cNvSpPr/>
          <p:nvPr/>
        </p:nvSpPr>
        <p:spPr>
          <a:xfrm>
            <a:off x="1547640" y="1773360"/>
            <a:ext cx="5977080" cy="4751280"/>
          </a:xfrm>
          <a:custGeom>
            <a:avLst/>
            <a:gdLst>
              <a:gd name="textAreaLeft" fmla="*/ 0 w 5977080"/>
              <a:gd name="textAreaRight" fmla="*/ 5977440 w 5977080"/>
              <a:gd name="textAreaTop" fmla="*/ 0 h 4751280"/>
              <a:gd name="textAreaBottom" fmla="*/ 4751640 h 4751280"/>
            </a:gdLst>
            <a:ahLst/>
            <a:rect l="textAreaLeft" t="textAreaTop" r="textAreaRight" b="textAreaBottom"/>
            <a:pathLst>
              <a:path w="3765" h="2993">
                <a:moveTo>
                  <a:pt x="0" y="0"/>
                </a:moveTo>
                <a:lnTo>
                  <a:pt x="3765" y="0"/>
                </a:lnTo>
                <a:lnTo>
                  <a:pt x="3765" y="2993"/>
                </a:lnTo>
                <a:lnTo>
                  <a:pt x="408" y="2993"/>
                </a:lnTo>
                <a:lnTo>
                  <a:pt x="408" y="363"/>
                </a:lnTo>
                <a:lnTo>
                  <a:pt x="0" y="0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 rot="16200000">
            <a:off x="179280" y="3284280"/>
            <a:ext cx="482436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GATIVELY-CHARGED ELECTR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 rot="16200000">
            <a:off x="4716360" y="3284280"/>
            <a:ext cx="482436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ITIVELY-CHARGED ELECTR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-1000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ONIZATION IN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7"/>
          <p:cNvSpPr/>
          <p:nvPr/>
        </p:nvSpPr>
        <p:spPr>
          <a:xfrm>
            <a:off x="2987640" y="299736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ffa1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8"/>
          <p:cNvSpPr/>
          <p:nvPr/>
        </p:nvSpPr>
        <p:spPr>
          <a:xfrm>
            <a:off x="4140360" y="328464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d3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9"/>
          <p:cNvSpPr/>
          <p:nvPr/>
        </p:nvSpPr>
        <p:spPr>
          <a:xfrm>
            <a:off x="4643280" y="4869000"/>
            <a:ext cx="648000" cy="647640"/>
          </a:xfrm>
          <a:prstGeom prst="ellipse">
            <a:avLst/>
          </a:prstGeom>
          <a:gradFill rotWithShape="0">
            <a:gsLst>
              <a:gs pos="0">
                <a:srgbClr val="ffffa1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3132000" y="4797360"/>
            <a:ext cx="648000" cy="647640"/>
          </a:xfrm>
          <a:prstGeom prst="ellipse">
            <a:avLst/>
          </a:prstGeom>
          <a:gradFill rotWithShape="0">
            <a:gsLst>
              <a:gs pos="0">
                <a:srgbClr val="ffd3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1"/>
          <p:cNvSpPr/>
          <p:nvPr/>
        </p:nvSpPr>
        <p:spPr>
          <a:xfrm>
            <a:off x="3995640" y="407664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ffa1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5219640" y="378936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d3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3"/>
          <p:cNvSpPr/>
          <p:nvPr/>
        </p:nvSpPr>
        <p:spPr>
          <a:xfrm>
            <a:off x="6084720" y="3141720"/>
            <a:ext cx="648000" cy="647640"/>
          </a:xfrm>
          <a:prstGeom prst="ellipse">
            <a:avLst/>
          </a:prstGeom>
          <a:gradFill rotWithShape="0">
            <a:gsLst>
              <a:gs pos="0">
                <a:srgbClr val="ffffa1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4"/>
          <p:cNvSpPr/>
          <p:nvPr/>
        </p:nvSpPr>
        <p:spPr>
          <a:xfrm>
            <a:off x="6012000" y="465300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d3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1836720" y="76500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7381800" y="76500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5.78035E-007 L -0.05902 -0.00532 E">
                                      <p:cBhvr>
                                        <p:cTn id="88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5549E-006 L -0.16927 -0.00508 E">
                                      <p:cBhvr>
                                        <p:cTn id="9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5.78035E-007 L -0.2401 -0.00509 E">
                                      <p:cBhvr>
                                        <p:cTn id="9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15607E-007 L -0.39774 -0.00532 E">
                                      <p:cBhvr>
                                        <p:cTn id="94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8.67052E-007 L 0.27171 -0.00509 E">
                                      <p:cBhvr>
                                        <p:cTn id="9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5549E-006 L 0.15365 0.00531 E">
                                      <p:cBhvr>
                                        <p:cTn id="9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4624E-006 L 0.38195 0.00531 E">
                                      <p:cBhvr>
                                        <p:cTn id="100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50867E-006 L 0.06702 -0.00509 E">
                                      <p:cBhvr>
                                        <p:cTn id="10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25:23Z</dcterms:created>
  <dc:creator>User</dc:creator>
  <dc:description/>
  <dc:language>en-US</dc:language>
  <cp:lastModifiedBy>Alan</cp:lastModifiedBy>
  <dcterms:modified xsi:type="dcterms:W3CDTF">2013-10-01T18:50:27Z</dcterms:modified>
  <cp:revision>93</cp:revision>
  <dc:subject/>
  <dc:title>ACIDS + BASES</dc:title>
</cp:coreProperties>
</file>